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288EF9-9DEC-48F9-9698-24FCD786E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4BA2D9-3515-470B-83B7-ED5315C31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D3B179-E801-4A22-8256-5DF61ACD9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4FDA16-5679-4F9C-8552-39E996608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6504D3-E609-4EA6-AFA7-BB566B290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3E7EBE-9B6F-41FC-AA24-B3ED840AE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69BE37-B9D5-498B-90FE-2CEADB2A1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3A74B0-2C60-46CA-903E-52E74EF6D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0817A7-A0D9-4035-B834-F04A592D2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CEBE37-4530-4C50-B31A-92BF1E432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A1F20-ADDF-4F98-89D0-11537AEB2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87144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53D59-2164-4E42-A03D-60EA1C156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220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2BC00-510D-4A59-9C27-D3339D3DB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460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484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460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484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90F57-3636-4464-9820-D3B5AEB5E6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96A2-0A75-447B-ACA7-A032BF7380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0388-BF35-45DD-BC33-32ECED8B8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3231-7638-4E23-BAD4-663F4F7CC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8491F-042A-45A6-A6A8-8366311B4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DD47A-BE8E-4B6B-ABE0-2DEA4D76E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9A7FA-3601-4D71-A685-184CA97C4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220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448E-322B-4F4D-AA5B-6F6673458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4DAC7-5594-492E-BD54-DAB4EFEF6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160"/>
            <a:ext cx="684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1-</a:t>
            </a:r>
            <a:fld id="{72A943F5-68A8-40C4-B866-9894D20962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1-</a:t>
            </a:r>
            <a:fld id="{6DDCCA53-7A14-455A-AEF7-7EC3BD76EA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000" y="1523880"/>
            <a:ext cx="7468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Point 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 beaucoup d’autres verbes utiles, le verb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fai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do, to ma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st irr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égulier au prés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914400" y="2971800"/>
            <a:ext cx="7315200" cy="2054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1295280" y="5181480"/>
            <a:ext cx="6858000" cy="8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1-</a:t>
            </a:r>
            <a:fld id="{6AF1ABF1-F46D-484F-BC10-6D509B231A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6400800" cy="29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1-</a:t>
            </a:r>
            <a:fld id="{169A37FC-A7A3-4B3C-95EC-DF2A477EB3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z le verb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fa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es expressions idiomatiques suivantes. Observez que sa traduction en anglais n’est pas toujou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ma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398600" y="2635200"/>
            <a:ext cx="6345360" cy="37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1-</a:t>
            </a:r>
            <a:fld id="{23D071A5-C30A-48F4-A4F4-058D18D595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1371600" y="2209680"/>
            <a:ext cx="6581880" cy="24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1-</a:t>
            </a:r>
            <a:fld id="{A841DECE-B250-4259-BC56-6017015190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360" y="180504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d il y en a un, apprenez l’article qu’il faut utiliser dans les expression avec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fa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Si ces expressions exigent un partitif ou un article indéfini, cet article est remplacé par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une phrase nég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1066680" y="3710160"/>
            <a:ext cx="712008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1-</a:t>
            </a:r>
            <a:fld id="{0BD82DE5-EE7D-425F-A1BC-840B66F425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4000" y="1814400"/>
            <a:ext cx="7926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z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faire la connaissance 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ant le nom d’une personne ou tout autre nom qui identifie une person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295280" y="3186000"/>
            <a:ext cx="67820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1-</a:t>
            </a:r>
            <a:fld id="{755E3A67-D3E2-448D-8E9C-9520C484AA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360" y="180972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L’expression “</a:t>
            </a:r>
            <a:r>
              <a:rPr b="1" i="1" lang="en-US" sz="2400" spc="-1" strike="noStrike">
                <a:solidFill>
                  <a:srgbClr val="ff8000"/>
                </a:solidFill>
                <a:latin typeface="Arial"/>
              </a:rPr>
              <a:t>il fau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1436760" y="2495520"/>
            <a:ext cx="627048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1-</a:t>
            </a:r>
            <a:fld id="{800C3EF1-3571-4CDE-8D9E-E2CC1B9E68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4360" y="180504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d elle est suivie par un verbe à l’infinitif, l’expressio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il faut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ifi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is necessary to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must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1523880" y="3557520"/>
            <a:ext cx="6248520" cy="20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1-</a:t>
            </a:r>
            <a:fld id="{FF29C014-C842-4A7D-8784-B69974F3A6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2"/>
          <a:stretch/>
        </p:blipFill>
        <p:spPr>
          <a:xfrm>
            <a:off x="552600" y="1371600"/>
            <a:ext cx="8048520" cy="51069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762120" y="2514600"/>
            <a:ext cx="7621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__________ tes devoirs le samedi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us ne __________ pas attention au professe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__________ du camp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s __________ du jogg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__________ une promenade au par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__________ du ski en montagn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__________ de l’aérobi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s __________ un tour en voi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-ce que vous __________ la cuisin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ne __________ pas de spor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14400" y="1600200"/>
            <a:ext cx="7356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171468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létez chaque phrase avec la form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recte du verbe </a:t>
            </a:r>
            <a:r>
              <a:rPr b="1" lang="en-US" sz="2100" spc="-1" strike="noStrike">
                <a:solidFill>
                  <a:srgbClr val="000000"/>
                </a:solidFill>
                <a:latin typeface="Arial Black"/>
              </a:rPr>
              <a:t>fair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u prése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828800" y="2462040"/>
            <a:ext cx="762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2483c8"/>
                </a:solidFill>
                <a:latin typeface="Comic Sans MS"/>
              </a:rPr>
              <a:t>fai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4:53:13Z</dcterms:created>
  <dc:creator>© 2011 Vista Higher Learning. All rights reserved.</dc:creator>
  <dc:description/>
  <cp:keywords/>
  <dc:language>en-US</dc:language>
  <cp:lastModifiedBy>Viviane Grebert</cp:lastModifiedBy>
  <dcterms:modified xsi:type="dcterms:W3CDTF">2011-09-17T19:27:29Z</dcterms:modified>
  <cp:revision>35</cp:revision>
  <dc:subject>Espaces: Rendez-vous avec le monde francophone, Second Edition</dc:subject>
  <dc:title>Unité 5: Les loisirs</dc:title>
</cp:coreProperties>
</file>